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9BA-11DF-4A35-8FB3-7C2D5302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35B-6097-449B-8D23-F3A0687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989-0393-4711-B783-BFC62D03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E93-BF4E-4E40-9C2A-FAAB7DB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3C2-6DBF-41B3-8DEB-2E28279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ED1-B434-4374-BCE0-07E70B36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8B4-EE19-42E5-A55E-9BF837FA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726-2617-4683-AC3B-0532295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63A-7509-4AC2-A944-D83DF4B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399-A73E-49A2-AE28-6FF7E8C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65B-E3F1-4FA1-8827-BCFAC13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4D4-D099-4FC0-A9A9-C747167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E366-A941-49EF-9443-548FCC91A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LY   ENGLAND</a:t>
            </a:r>
            <a:br>
              <a:rPr sz="5400"/>
            </a:b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Hunter-gatherers to the R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 APPE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Old Stone Age (Pale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70,000-8000 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on of warm and ice-ag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st Britain is glac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level is low. Land-bridges between England and Europe. People could walk to and from the conti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s-gatherers. Lived in caves. No cave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evidence – stone tools (flint ax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Middle Stone Age (Mes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8300 – 3500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te warmer, glaciers retreated. Britain is an is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s-gatherers started to settle for longer periods in Brit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ies began to hunt in localis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rend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New Stone Age (Neolithic)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3500-2500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of agriculture (cultivation of crops and domestication of animals)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nt 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ance of for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d on communal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es (to get fl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ult of the dead – communal bu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Bronze Age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500-700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equality between the rich and the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al burials replaced with individual gr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ker Peop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doms  and ornaments of po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ing (horse-riding equipment. Wheel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tone Cir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900 in the British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iginal purpose is un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rading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cient observa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: the Lake District, the Land’s End and Wiltshire Downs (Avebury, Silbury Hill and Stonehe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62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00000" y="1125360"/>
            <a:ext cx="8244000" cy="539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onehe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03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imes New Roman"/>
              </a:rPr>
              <a:t>The evolution of the British Isles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The geological stages of the formation of the island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reflected in the present landscap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2700 mln. years ag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Volcanic eruptions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ocks in the Scottish High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lain" startAt="5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ln.  years ago-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s covered the south of Brit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on of floods and drying outs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ing forests, swam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—rottening of vegetation—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ormed and compressed—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S.Wales, Yorkshire, Kent, N.Engl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80-200 mln. years ago –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tain was a dese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0 mln. Years ago –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s and animals appeared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0 mln. Years ag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s at the highest level – Britain was blanketed by the fragments of algae 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500 m thick in some places – white cliffs of the s. co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5 mln. years ago –succession 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~1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temp. – 6-9 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ar as to Lond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s of erosion in the Lake District, Snowdonia, Scottish High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7:09:13Z</dcterms:created>
  <dc:creator>anazarenko</dc:creator>
  <dc:description/>
  <dc:language>en-US</dc:language>
  <cp:lastModifiedBy>ALLA</cp:lastModifiedBy>
  <dcterms:modified xsi:type="dcterms:W3CDTF">2006-09-26T19:31:41Z</dcterms:modified>
  <cp:revision>3</cp:revision>
  <dc:subject/>
  <dc:title>EARLY   ENGLAND  From Hunter-gatherers to the Romans</dc:title>
</cp:coreProperties>
</file>